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DD8070-DC03-407D-90CD-8F7E3B405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4C873B-E307-4A99-A018-D1597FBE7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929C48-EA73-4D3C-BFB2-84E7BD7C4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9BC65E-F6D3-4441-9628-ED654B21D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12B524-C8E9-42D7-9229-C4EEEB473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D23442-FDF5-4EEA-8031-CCBA1C727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9FA1B7-7683-4751-98D2-AB4E126C7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B1A5BE-D510-44F5-B642-1464E9C67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D54AB3-B757-43E9-8109-0B79681E2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F3246E-24B3-4A60-9BCE-E711F0CA1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8E9D2A-B338-43B1-B12B-DE4F1FD4B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C452-8F01-441D-8044-25986C7DD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88FB-E425-449F-9ED2-C4B205821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4F58-F008-423F-8109-DC32100C5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C6C1-3A60-4198-B8B5-282C93D662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C4D9-57EE-44C0-8372-24D7750EB9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0AE7-F742-437F-81EF-E1594255F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74FF-6029-4A16-90B6-4706EFACD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CA1D-7D3C-4D62-81E4-58CAB7375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F27C-1FEF-45CE-B31A-1AD52F126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F5EE-F1BA-4651-8DB3-8E8FCC068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960F-3607-4AEB-B229-3D709D433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73BB-6454-452A-B15A-5703D07FB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B3DD7-ABAA-4C7E-A2EA-823BD1CC8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hyperlink" Target="http://www.google.com/imgres?imgurl=http://www.femail.com.au/img/steve_irwin.jpg&amp;imgrefurl=http://www.femail.com.au/steve-irwin-crocodile-hunter.htm&amp;usg=__k6tnkcaBKcQroYeS2PSkVFESboo=&amp;h=398&amp;w=600&amp;sz=205&amp;hl=en&amp;start=5&amp;um=1&amp;itbs=1&amp;tbnid=I6sE-fF6j7xYlM:&amp;tbnh=90&amp;tbnw=135&amp;prev=/images%3Fq%3Dsteve%2Birwin%26um%3D1%26hl%3Den%26safe%3Dstrict%26sa%3DN%26tbs%3Disch:1" TargetMode="External"/><Relationship Id="rId9" Type="http://schemas.openxmlformats.org/officeDocument/2006/relationships/image" Target="../media/image2.jpeg"/><Relationship Id="rId10" Type="http://schemas.openxmlformats.org/officeDocument/2006/relationships/hyperlink" Target="http://www.google.com/imgres?imgurl=http://www.femail.com.au/img/steve_irwin.jpg&amp;imgrefurl=http://www.femail.com.au/steve-irwin-crocodile-hunter.htm&amp;usg=__k6tnkcaBKcQroYeS2PSkVFESboo=&amp;h=398&amp;w=600&amp;sz=205&amp;hl=en&amp;start=5&amp;um=1&amp;itbs=1&amp;tbnid=I6sE-fF6j7xYlM:&amp;tbnh=90&amp;tbnw=135&amp;prev=/images%3Fq%3Dsteve%2Birwin%26um%3D1%26hl%3Den%26safe%3Dstrict%26sa%3DN%26tbs%3Disch:1" TargetMode="External"/><Relationship Id="rId11" Type="http://schemas.openxmlformats.org/officeDocument/2006/relationships/image" Target="../media/image2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hyperlink" Target="http://www.google.com/imgres?imgurl=http://www.dreamstime.com/angry-man-pointing-at-you-thumb162498.jpg&amp;imgrefurl=http://www.dreamstime.com/angry-man-pointing-at-you-image162498&amp;usg=__icgvVPPl2jPBuCkYRnrL7ycjDZE=&amp;h=350&amp;w=233&amp;sz=34&amp;hl=en&amp;start=18&amp;um=1&amp;itbs=1&amp;tbnid=f20O3ciik6crtM:&amp;tbnh=120&amp;tbnw=80&amp;prev=/images%3Fq%3Dangry%2Bman%26um%3D1%26hl%3Den%26safe%3Dstrict%26tbs%3Disch:1" TargetMode="External"/><Relationship Id="rId15" Type="http://schemas.openxmlformats.org/officeDocument/2006/relationships/image" Target="../media/image3.jpeg"/><Relationship Id="rId16" Type="http://schemas.openxmlformats.org/officeDocument/2006/relationships/hyperlink" Target="http://www.google.com/imgres?imgurl=http://www.parentpreviews.com/legacy-pics/pink_panther.jpg&amp;imgrefurl=http://www.parentpreviews.com/movie-reviews/pink-panther/&amp;usg=__0PgJjiu7WOjROqcdqXL-46NVAis=&amp;h=250&amp;w=300&amp;sz=72&amp;hl=en&amp;start=13&amp;um=1&amp;itbs=1&amp;tbnid=NAuyXCahgs0jOM:&amp;tbnh=97&amp;tbnw=116&amp;prev=/images%3Fq%3Dpink%2Bpanther%2Bmovie%26um%3D1%26hl%3Den%26safe%3Dstrict%26tbs%3Disch:1" TargetMode="External"/><Relationship Id="rId17" Type="http://schemas.openxmlformats.org/officeDocument/2006/relationships/image" Target="../media/image4.jpeg"/><Relationship Id="rId18" Type="http://schemas.openxmlformats.org/officeDocument/2006/relationships/hyperlink" Target="http://www.google.com/imgres?imgurl=http://www.parentpreviews.com/legacy-pics/pink_panther.jpg&amp;imgrefurl=http://www.parentpreviews.com/movie-reviews/pink-panther/&amp;usg=__0PgJjiu7WOjROqcdqXL-46NVAis=&amp;h=250&amp;w=300&amp;sz=72&amp;hl=en&amp;start=13&amp;um=1&amp;itbs=1&amp;tbnid=NAuyXCahgs0jOM:&amp;tbnh=97&amp;tbnw=116&amp;prev=/images%3Fq%3Dpink%2Bpanther%2Bmovie%26um%3D1%26hl%3Den%26safe%3Dstrict%26tbs%3Disch:1" TargetMode="External"/><Relationship Id="rId19" Type="http://schemas.openxmlformats.org/officeDocument/2006/relationships/image" Target="../media/image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1.jpeg"/><Relationship Id="rId8" Type="http://schemas.openxmlformats.org/officeDocument/2006/relationships/hyperlink" Target="http://www.google.com/imgres?imgurl=http://i41.tinypic.com/2uhn2wg.jpg&amp;imgrefurl=http://jazzfanz.com/viewtopic.php%3Ff%3D2%26p%3D726819&amp;usg=__eSPTzSssGHf8D9zqfAW9Xcjoa5w=&amp;h=396&amp;w=450&amp;sz=38&amp;hl=en&amp;start=17&amp;um=1&amp;itbs=1&amp;tbnid=TqbJqkFgpo5h4M:&amp;tbnh=112&amp;tbnw=127&amp;prev=/images%3Fq%3Dtaylor%2Bswift%2Bconcert%26um%3D1%26hl%3Den%26safe%3Dstrict%26tbs%3Disch:1" TargetMode="External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7.xml"/><Relationship Id="rId6" Type="http://schemas.openxmlformats.org/officeDocument/2006/relationships/image" Target="../media/image1.jpeg"/><Relationship Id="rId7" Type="http://schemas.openxmlformats.org/officeDocument/2006/relationships/hyperlink" Target="http://www.google.com/imgres?imgurl=http://www.parentpreviews.com/legacy-pics/pink_panther.jpg&amp;imgrefurl=http://www.parentpreviews.com/movie-reviews/pink-panther/&amp;usg=__0PgJjiu7WOjROqcdqXL-46NVAis=&amp;h=250&amp;w=300&amp;sz=72&amp;hl=en&amp;start=13&amp;um=1&amp;itbs=1&amp;tbnid=NAuyXCahgs0jOM:&amp;tbnh=97&amp;tbnw=116&amp;prev=/images%3Fq%3Dpink%2Bpanther%2Bmovie%26um%3D1%26hl%3Den%26safe%3Dstrict%26tbs%3Disch:1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google.com/imgres?imgurl=http://www.dreamstime.com/angry-man-pointing-at-you-thumb162498.jpg&amp;imgrefurl=http://www.dreamstime.com/angry-man-pointing-at-you-image162498&amp;usg=__icgvVPPl2jPBuCkYRnrL7ycjDZE=&amp;h=350&amp;w=233&amp;sz=34&amp;hl=en&amp;start=18&amp;um=1&amp;itbs=1&amp;tbnid=f20O3ciik6crtM:&amp;tbnh=120&amp;tbnw=80&amp;prev=/images%3Fq%3Dangry%2Bman%26um%3D1%26hl%3Den%26safe%3Dstrict%26tbs%3Disch:1" TargetMode="External"/><Relationship Id="rId10" Type="http://schemas.openxmlformats.org/officeDocument/2006/relationships/image" Target="../media/image3.jpeg"/><Relationship Id="rId11" Type="http://schemas.openxmlformats.org/officeDocument/2006/relationships/hyperlink" Target="http://www.google.com/imgres?imgurl=http://www.femail.com.au/img/steve_irwin.jpg&amp;imgrefurl=http://www.femail.com.au/steve-irwin-crocodile-hunter.htm&amp;usg=__k6tnkcaBKcQroYeS2PSkVFESboo=&amp;h=398&amp;w=600&amp;sz=205&amp;hl=en&amp;start=5&amp;um=1&amp;itbs=1&amp;tbnid=I6sE-fF6j7xYlM:&amp;tbnh=90&amp;tbnw=135&amp;prev=/images%3Fq%3Dsteve%2Birwin%26um%3D1%26hl%3Den%26safe%3Dstrict%26sa%3DN%26tbs%3Disch:1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http://www.google.com/imgres?imgurl=http://www.femail.com.au/img/steve_irwin.jpg&amp;imgrefurl=http://www.femail.com.au/steve-irwin-crocodile-hunter.htm&amp;usg=__k6tnkcaBKcQroYeS2PSkVFESboo=&amp;h=398&amp;w=600&amp;sz=205&amp;hl=en&amp;start=5&amp;um=1&amp;itbs=1&amp;tbnid=I6sE-fF6j7xYlM:&amp;tbnh=90&amp;tbnw=135&amp;prev=/images%3Fq%3Dsteve%2Birwin%26um%3D1%26hl%3Den%26safe%3Dstrict%26sa%3DN%26tbs%3Disch:1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hyperlink" Target="http://www.google.com/imgres?imgurl=http://www.parentpreviews.com/legacy-pics/pink_panther.jpg&amp;imgrefurl=http://www.parentpreviews.com/movie-reviews/pink-panther/&amp;usg=__0PgJjiu7WOjROqcdqXL-46NVAis=&amp;h=250&amp;w=300&amp;sz=72&amp;hl=en&amp;start=13&amp;um=1&amp;itbs=1&amp;tbnid=NAuyXCahgs0jOM:&amp;tbnh=97&amp;tbnw=116&amp;prev=/images%3Fq%3Dpink%2Bpanther%2Bmovie%26um%3D1%26hl%3Den%26safe%3Dstrict%26tbs%3Disch:1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hyperlink" Target="http://www.google.com/imgres?imgurl=http://www.dreamstime.com/angry-man-pointing-at-you-thumb162498.jpg&amp;imgrefurl=http://www.dreamstime.com/angry-man-pointing-at-you-image162498&amp;usg=__icgvVPPl2jPBuCkYRnrL7ycjDZE=&amp;h=350&amp;w=233&amp;sz=34&amp;hl=en&amp;start=18&amp;um=1&amp;itbs=1&amp;tbnid=f20O3ciik6crtM:&amp;tbnh=120&amp;tbnw=80&amp;prev=/images%3Fq%3Dangry%2Bman%26um%3D1%26hl%3Den%26safe%3Dstrict%26tbs%3Disch:1" TargetMode="External"/><Relationship Id="rId7" Type="http://schemas.openxmlformats.org/officeDocument/2006/relationships/image" Target="../media/image3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ves her Rome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62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uliet (5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uliet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ulie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8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9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52280" y="33526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152280" y="5181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0" y="62485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me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609480" y="62611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bal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34"/>
          <p:cNvSpPr/>
          <p:nvPr/>
        </p:nvSpPr>
        <p:spPr>
          <a:xfrm>
            <a:off x="1219320" y="6259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crying for her banished lover… who she will likely never see again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’t believe that she is married!!!!! I LOVE YOU ROMEO!!!!!!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4"/>
          <p:cNvSpPr/>
          <p:nvPr/>
        </p:nvSpPr>
        <p:spPr>
          <a:xfrm>
            <a:off x="2590920" y="37339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o to Juli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love you my love,  my absolute sun, my life! I am just happy that you are my wife. Love me and I shall fly on wings to your side! My heart goes out to my Juliet, my bride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5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ays that Romeo will say yes to the marriage…. I LOVE HIM!!!!!! Although I can’t believe that he was rude enough to listen in on my personal conversation… AND NOT TELL ME ABOUT IT!!!!!!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6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to Juli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y my lady, I have asked your father for your hand in marriage. He said to make you love me! And I will…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4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mother would not force me to make a decision about marriage… I don’t want to!!!!!!!!!!!!!!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152280" y="1828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9"/>
          <p:cNvSpPr/>
          <p:nvPr/>
        </p:nvSpPr>
        <p:spPr>
          <a:xfrm>
            <a:off x="152280" y="1828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905120"/>
          <a:ext cx="1602000" cy="583920"/>
        </p:xfrm>
        <a:graphic>
          <a:graphicData uri="http://schemas.openxmlformats.org/drawingml/2006/table">
            <a:tbl>
              <a:tblPr/>
              <a:tblGrid>
                <a:gridCol w="1602000"/>
              </a:tblGrid>
              <a:tr h="58392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love is like my drug… I cling to it!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60" descr="http://www.glogster.com/media/2/4/47/73/4477319.jpg"/>
          <p:cNvPicPr/>
          <p:nvPr/>
        </p:nvPicPr>
        <p:blipFill>
          <a:blip r:embed="rId5"/>
          <a:stretch/>
        </p:blipFill>
        <p:spPr>
          <a:xfrm>
            <a:off x="228600" y="425520"/>
            <a:ext cx="1295280" cy="1387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0" descr="http://www.glogster.com/media/2/4/47/73/4477319.jpg"/>
          <p:cNvPicPr/>
          <p:nvPr/>
        </p:nvPicPr>
        <p:blipFill>
          <a:blip r:embed="rId6"/>
          <a:stretch/>
        </p:blipFill>
        <p:spPr>
          <a:xfrm>
            <a:off x="1981080" y="2362320"/>
            <a:ext cx="584280" cy="625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0" descr="http://www.glogster.com/media/2/4/47/73/4477319.jpg"/>
          <p:cNvPicPr/>
          <p:nvPr/>
        </p:nvPicPr>
        <p:blipFill>
          <a:blip r:embed="rId7"/>
          <a:stretch/>
        </p:blipFill>
        <p:spPr>
          <a:xfrm>
            <a:off x="1981080" y="3048120"/>
            <a:ext cx="584280" cy="625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5120" y="3733920"/>
            <a:ext cx="761760" cy="50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0" y="579132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0" descr="http://www.glogster.com/media/2/4/47/73/4477319.jpg"/>
          <p:cNvPicPr/>
          <p:nvPr/>
        </p:nvPicPr>
        <p:blipFill>
          <a:blip r:embed="rId12"/>
          <a:stretch/>
        </p:blipFill>
        <p:spPr>
          <a:xfrm>
            <a:off x="1981080" y="4343400"/>
            <a:ext cx="584280" cy="625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http://www.glogster.com/media/2/4/47/73/4477319.jpg"/>
          <p:cNvPicPr/>
          <p:nvPr/>
        </p:nvPicPr>
        <p:blipFill>
          <a:blip r:embed="rId13"/>
          <a:stretch/>
        </p:blipFill>
        <p:spPr>
          <a:xfrm>
            <a:off x="2057400" y="5791320"/>
            <a:ext cx="584280" cy="625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5800" y="556272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143000" y="5638680"/>
            <a:ext cx="685800" cy="573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981080" y="5181480"/>
            <a:ext cx="68580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1"/>
          <p:cNvSpPr/>
          <p:nvPr/>
        </p:nvSpPr>
        <p:spPr>
          <a:xfrm>
            <a:off x="3352680" y="3048120"/>
            <a:ext cx="3124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523880" y="6858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ves her Rome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7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895480" y="0"/>
            <a:ext cx="914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7339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45720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64771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uliet (5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uliet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152280" y="2882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ulie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9">
            <a:hlinkClick r:id="rId5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1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>
            <a:off x="152280" y="32767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152280" y="358128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152280" y="48769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3200400" y="17524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205740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pend all my waking moments thinking of Romeo, Talking w/ Nurs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Romeo, romantics, poetry (especially if written by Romeo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dy Gaga, Taylor Swift, Ray Boltz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carlet Pimpernel, (any Romance……)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 Things I Hate About You, Good Luck Charli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I like all Romantics, but my favorites are poetry books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838080" y="533412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aylor Swift concert!!!!!!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hursda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y Rome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Monda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7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>
            <a:off x="3276720" y="49528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treets of 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458) - 876 – 6361 (I LUV ROMEO!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480" y="1870200"/>
          <a:ext cx="1525320" cy="554040"/>
        </p:xfrm>
        <a:graphic>
          <a:graphicData uri="http://schemas.openxmlformats.org/drawingml/2006/table">
            <a:tbl>
              <a:tblPr/>
              <a:tblGrid>
                <a:gridCol w="1525320"/>
              </a:tblGrid>
              <a:tr h="5540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love is like my drug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ling to it!!!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60" descr="http://www.glogster.com/media/2/4/47/73/4477319.jpg"/>
          <p:cNvPicPr/>
          <p:nvPr/>
        </p:nvPicPr>
        <p:blipFill>
          <a:blip r:embed="rId7"/>
          <a:stretch/>
        </p:blipFill>
        <p:spPr>
          <a:xfrm>
            <a:off x="228600" y="425520"/>
            <a:ext cx="1295280" cy="1387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533412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76320" y="6095880"/>
            <a:ext cx="7668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>
            <a:hlinkClick r:id="rId3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1">
            <a:hlinkClick r:id="rId4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85800" y="1523880"/>
            <a:ext cx="601992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xt Message Conversation with Rome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 my lover, Romeo, texted me a while ago, and he was sooooo romantic and poetic! This is what he said! I love him!!!!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meo:  Ur beauty is like the sun, no, wait. It is MORE than the sun. It is like all the stars put together!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AWWWWW &lt;3 Thanks!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meo: Ur welcome, my sweet. There is nothing in the world your beauty can’t bea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Seriously, Rom Rom, you should make a book of all your poems! They’re awesome!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meo: No. My poems are for your pleasure only, as is my love for you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Don’t make me blush!!!!!!!! Oh wait, you already did! I love you Rom Rom!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meo: I love you too, my sweet!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533520" y="4114800"/>
            <a:ext cx="563868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g on Life as a Veronian Teenager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ightey, then. Life in Verona is… well… BORING. With the exception of Romeo, of course… Any way, all I get to do is stay in the house and wait until some exciting news comes to me through my nurse, who I love dearly… but come on! Nothing ever happens to me… except my Romeo. That was a miracle just waiting to happen to me… But, I never get to see him because technically I “hate” him… GAH!!!! How can people stand it? Sometimes I wish that I could be like the heroes in the romantics I read… Knights in shining armor, saving the damsel in distress… SOOO romantic! Sigh… if only that could be me…. Or Romeo….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ves her Rome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533520" y="1523880"/>
            <a:ext cx="6400800" cy="251460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533520" y="4038480"/>
            <a:ext cx="6400800" cy="221004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60" descr="http://www.glogster.com/media/2/4/47/73/4477319.jpg"/>
          <p:cNvPicPr/>
          <p:nvPr/>
        </p:nvPicPr>
        <p:blipFill>
          <a:blip r:embed="rId5"/>
          <a:stretch/>
        </p:blipFill>
        <p:spPr>
          <a:xfrm>
            <a:off x="0" y="457200"/>
            <a:ext cx="88272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0" y="1905120"/>
            <a:ext cx="9144000" cy="14475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1371600" y="2057400"/>
            <a:ext cx="60958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Rom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I can’t believe your gone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ne and dead, an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>
            <a:hlinkClick r:id="rId3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1066680" y="121932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28"/>
          <p:cNvSpPr/>
          <p:nvPr/>
        </p:nvSpPr>
        <p:spPr>
          <a:xfrm>
            <a:off x="1447920" y="3505320"/>
            <a:ext cx="60958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P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Wedding bells are rin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, we will be wed, and I will be the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traight Connector 30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32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34"/>
          <p:cNvSpPr/>
          <p:nvPr/>
        </p:nvSpPr>
        <p:spPr>
          <a:xfrm>
            <a:off x="1523880" y="5181480"/>
            <a:ext cx="6096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Tyb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Capulet B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ously, I saw that rat Montague at the part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60" descr="http://www.glogster.com/media/2/4/47/73/4477319.jpg"/>
          <p:cNvPicPr/>
          <p:nvPr/>
        </p:nvPicPr>
        <p:blipFill>
          <a:blip r:embed="rId6"/>
          <a:stretch/>
        </p:blipFill>
        <p:spPr>
          <a:xfrm>
            <a:off x="228600" y="425520"/>
            <a:ext cx="892080" cy="1098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3581280"/>
            <a:ext cx="1143000" cy="955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920" y="502920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52280" y="2133720"/>
            <a:ext cx="129564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0">
            <a:hlinkClick r:id="rId3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24"/>
          <p:cNvSpPr/>
          <p:nvPr/>
        </p:nvSpPr>
        <p:spPr>
          <a:xfrm>
            <a:off x="1600200" y="1981080"/>
            <a:ext cx="64008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 can’t believe your gon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're gone and dead, and I can’t believe it. But I must, because why would my servant lie to me, and tell me so? Oh, Juliet, I love you and I will join you as soon as I can get means to do so. Poison may be the quickest way….. I vowed to love you forever, and I shall. I vowed to be with you forever, and I shall. Oh, Curse Fate who has made this luck fall on me! I cannot quench the sorrow I feel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205740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0" descr="http://www.glogster.com/media/2/4/47/73/4477319.jpg"/>
          <p:cNvPicPr/>
          <p:nvPr/>
        </p:nvPicPr>
        <p:blipFill>
          <a:blip r:embed="rId7"/>
          <a:stretch/>
        </p:blipFill>
        <p:spPr>
          <a:xfrm>
            <a:off x="76320" y="380880"/>
            <a:ext cx="102528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>
            <a:hlinkClick r:id="rId3" action="ppaction://hlinksldjump"/>
          </p:cNvPr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24"/>
          <p:cNvSpPr/>
          <p:nvPr/>
        </p:nvSpPr>
        <p:spPr>
          <a:xfrm>
            <a:off x="1600200" y="1981080"/>
            <a:ext cx="6400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edding Bells are ri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 we will be wed, and I will be the luckiest man on earth, with the most beautiful wife, and the most money. I will be the most popular man alive! You are making all my dreams come tru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26"/>
          <p:cNvSpPr/>
          <p:nvPr/>
        </p:nvSpPr>
        <p:spPr>
          <a:xfrm>
            <a:off x="1676520" y="3886200"/>
            <a:ext cx="6400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edding Bells are ri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may be so, Paris, but Luck may change. You are not the luckiest man alive, yet, because we have not yet wed. Time will t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0" descr="http://www.glogster.com/media/2/4/47/73/4477319.jpg"/>
          <p:cNvPicPr/>
          <p:nvPr/>
        </p:nvPicPr>
        <p:blipFill>
          <a:blip r:embed="rId5"/>
          <a:stretch/>
        </p:blipFill>
        <p:spPr>
          <a:xfrm>
            <a:off x="76320" y="533520"/>
            <a:ext cx="1006200" cy="1143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2057400"/>
            <a:ext cx="1219320" cy="1019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0" descr="http://www.glogster.com/media/2/4/47/73/4477319.jpg"/>
          <p:cNvPicPr/>
          <p:nvPr/>
        </p:nvPicPr>
        <p:blipFill>
          <a:blip r:embed="rId8"/>
          <a:stretch/>
        </p:blipFill>
        <p:spPr>
          <a:xfrm>
            <a:off x="304920" y="3581280"/>
            <a:ext cx="120960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0">
            <a:hlinkClick r:id="rId4" action="ppaction://hlinksldjump"/>
          </p:cNvPr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>
            <a:hlinkClick r:id="rId5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1066680" y="1219320"/>
            <a:ext cx="9144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24"/>
          <p:cNvSpPr/>
          <p:nvPr/>
        </p:nvSpPr>
        <p:spPr>
          <a:xfrm>
            <a:off x="1828800" y="1981080"/>
            <a:ext cx="6400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apulet 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ously, I saw that rat Montague at the party yesterday… I want to kill him! But nooo… Old Man Capulet told me not to, that he was a “well-mannered boy.” YEA RIGHT! I will kill him for that, for coming just to make fun of us… CURSE THE HOUSE OF MONTAGUE!!!!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1752480" y="44956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apulet 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h huh… sure, Tybal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1905120"/>
            <a:ext cx="1016280" cy="1523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0" descr="http://www.glogster.com/media/2/4/47/73/4477319.jpg"/>
          <p:cNvPicPr/>
          <p:nvPr/>
        </p:nvPicPr>
        <p:blipFill>
          <a:blip r:embed="rId8"/>
          <a:stretch/>
        </p:blipFill>
        <p:spPr>
          <a:xfrm>
            <a:off x="304920" y="4114800"/>
            <a:ext cx="1295280" cy="1387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0" descr="http://www.glogster.com/media/2/4/47/73/4477319.jpg"/>
          <p:cNvPicPr/>
          <p:nvPr/>
        </p:nvPicPr>
        <p:blipFill>
          <a:blip r:embed="rId9"/>
          <a:stretch/>
        </p:blipFill>
        <p:spPr>
          <a:xfrm>
            <a:off x="76320" y="425520"/>
            <a:ext cx="10332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213044</cp:lastModifiedBy>
  <dcterms:modified xsi:type="dcterms:W3CDTF">2010-05-17T19:18:39Z</dcterms:modified>
  <cp:revision>56</cp:revision>
  <dc:subject/>
  <dc:title>Profile</dc:title>
</cp:coreProperties>
</file>